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558C-5FDE-44F5-8B81-4AB4C7252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BEE5-1BC6-4B8B-9FBC-1AF732A2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A74A86-E576-4961-B82A-A6AB88EA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7A38CF-1FD1-4440-95EF-447C31961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91F028-A8F9-4EDE-9004-7D532356A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7C79D8-284E-4A1B-9933-BFD29B6E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A7DF16-298A-4519-B8AB-75D043EA1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E9B720-60A5-4F34-82C7-A4F749104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A3AC8-1735-4EE4-A3A9-5E884DF5B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16A3F-9100-4D7C-A4FC-41AD01EFEF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44EEB9-4FAC-4DCB-8465-DB9F077FD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D9AD33-BA91-47E9-9801-00E9F3D34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36D3-9847-45B0-886A-9B1647BE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EB5D1-3EA0-45C6-9CDC-4E42B78CD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A6B418-1861-4639-A554-E99622408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3BA3E5-0009-4724-B705-2B8DBF3AB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026575-DB4B-4AD3-AEAB-E84F1D81F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D3DEA2-F1DE-41F9-8945-81053B0F8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7DF589-965E-47A9-8596-69C48FDF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E1EC4F-067A-4310-8411-612A310D3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07FF57-6BDB-4707-9A50-F454CCE38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BB619C-7303-4C7D-AC10-6116951D5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3EA92-BDE5-4D52-9E97-EAE92D6721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2D5C-6540-4F26-9344-93346BF3A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AF4437-EC63-4524-81A5-DCB89D338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05D3E4-2063-4E51-B690-51F88D8A4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FA6BCB-2B86-4606-BA9D-D42D9B4E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65CD54-2FB1-416E-8E69-407B7ACA4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CAE15E-C6C9-40FB-8B35-13EEDCF0B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050D49-DBE6-43B2-89EF-5E05B0AEB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781661-AF88-4FD7-B690-673462E84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0CF09-E8CF-4AB3-A3E5-BE7C21616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7DEB8-42CB-4D92-8BBF-ABBA57678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64A793-4328-4B27-8594-3125E944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2B548-0C83-4B7C-8229-41D807615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25727A-D7FB-42F1-8AB0-2D081ECF6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6BE54E-5968-4AC7-91F1-96AA632011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EDC217-39AA-4777-9C77-3F2703AE7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A14D8B-8C30-4DE9-88BF-B2BD53AB9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143B11-2ECA-4906-B499-131F7F537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26D0CE-D695-4879-B1D1-16D33FD47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87C722-984C-40F7-AA41-26AF3811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2F81EE-4AA2-4363-BF0B-060E72DB2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14DF55-70AC-4E3A-8960-FDAA939F9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6CD5A9-C21B-4989-8FCA-D28D0A0E7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1A50C-A79E-4CB4-AE8E-2331B4B74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C6857E-E6E4-44FE-B03A-F26324B61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03210C3-F030-41E9-A575-CA1F3C8E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13CB74-49DB-4E49-AE11-9D741279B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97CF82B-D287-4A8D-89E7-21D2B474DE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CE0C67-0964-4EFC-9C1F-04B71E6D8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BF2A0E-4DFB-4A08-86A7-220879F5BC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6A93D6-9199-4472-BA0A-04DF27FF8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DA3F8F-BA1B-43A5-99DC-2E2DDC04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698AF7-4640-4352-950E-E4AB5577F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AFA27A-7995-470D-8953-88309D5B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0006F-A3E9-4962-90E5-80CBC508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FDCA90-776D-43A2-B014-5AA3CD0E5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694439-735B-4CB1-9926-D6A45986F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18FE1A-BFD5-4F39-81D2-205A20A41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287B63-5859-412B-BF01-C19AA483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29CB26-DE39-4AAE-96E0-76299A25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72FBD8-E287-430E-99E0-DBFA21C6C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F07B13-49BF-4859-8D8F-89499DBAD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34C3DD-7E44-4BE4-BAFD-09A71BD6A2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1A0D14-7EE7-4754-8743-EBEE36AE6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72A3EB3-447E-4476-93FD-8C7D654D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64286-53AA-4BAF-A38D-D5954246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84191DD-AB62-4607-8170-024935DA5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95D432-4052-4774-9099-57DBC3CDF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008617-9393-427B-A28C-F82509E23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D3463B-916B-4002-A9CF-317D868E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C9CE8A-09D6-437F-B521-638A86014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843537-C2E6-48C9-954D-53DCB6300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0DA72C2-A045-4A45-A3EE-654501B5D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1F2781D-4B6D-4AD1-9D15-C62C7AFB2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3070A9-0ACD-4E55-9414-E5FE05A68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A98C28-23A2-4D65-B5C3-1EA20CF8D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F2D05-B004-45F7-83B1-4051474B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DB285B-C208-4FB7-AF94-5514EA5D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08B3EC1-C62F-4407-8214-F69067D77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A9A70B-21FC-421A-942E-A72513B8B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2C3771-00B8-49BA-BA6A-09C67DF21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247190-3751-4DAE-8CBA-681B4DD6E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24F5D3C-811C-47E2-BF58-940E8FA0A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883873-C40A-4F50-AB40-91675161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A66243-133F-4F5C-A802-4D4AA6DD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F7D998-3F42-4656-9BA6-F176086A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B75DA1-128E-4ED3-A820-14277AD04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D5333-9E92-4BAF-96CF-7076980C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147D9B-A547-4FDA-9491-F95D00B55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5FCB4B-AEAF-4CBD-B35D-6AED606F1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97043E-7EA0-4A8F-A188-1E8AF97D8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F11C39-184D-4E09-9A78-F1577A89D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6D12A4B-B0A6-4435-9514-E752D6923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46EF39-F447-41FB-B76C-B62911742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A5A5027-C952-4178-A51C-9801F6EE1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5F6853-D0A9-40C2-A8EF-892A4EC96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182F04-1031-4993-A369-F89239B1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F75BA1-0B29-424E-B3E9-1CDD496CC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50D96-6C32-494B-B529-9A5441783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2F3856-803C-4509-B624-B8BD7665B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8BEC44-2790-49A4-A3A5-D185ED9361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A576BC-7C63-403E-8870-1F72FDD53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0AC469F-DC09-49E2-919E-019FA0913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062223-F4D7-4F30-BA04-9CB96289D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3B68AD8-16F0-4C06-891C-552E638CD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5CB3105-FF90-46AA-8B3F-7C30CB275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708FB1-AF51-4B69-9DDC-84B20EF0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8CC777-B778-4B78-8770-507EDB68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D16761-2271-4DC4-8E7D-EB54F2CD1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59DB-D56E-43DC-9F66-57497260B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AB20F-8127-4FE6-993A-3B66ACC2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FFAAFF-2B80-4675-A67D-20D705D4F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B46DDC-16ED-4D5F-9B09-82C1EB2E3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96EECFB-DEBE-4D57-AB66-73BA8F43A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F5961A-74B1-4A89-A021-EE408434C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4ACB55-FA93-423D-B0CC-2A49A1606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03BAE28-EBC4-4B03-9705-30151DB28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70DE0A6-9631-42C8-B710-5DDDF3E30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B754491-6B16-444D-91C7-EF8067D0D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98AE73-1004-4B7C-83B4-02F69F640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9BB0EA-D259-40FB-B11E-A65C83075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A14A6-A124-4C59-A8CA-76B4031145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F51FE0-4C80-446A-A17F-4C6E99F09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5B2FC3-A8C7-44C6-8A8F-72A393CD0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0BF1309-ACC6-4FDF-BFB5-B7CA49C8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FCF9FF-027A-4E78-B87A-ED1DEA38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97D78D-2968-41AB-B021-79C3D8FAB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471C36-A4DC-45E3-AA2B-3D61D2B55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CBD38B7-24EC-43DE-86EC-1C9CFBA50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718889-A6DB-46C9-BE0E-816253251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5ED9A4-A13C-4873-9DB3-1BE3B8AC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8FD098-CCCC-4F65-8FBD-7DAD2718CA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5E6F0-9E98-4BC7-BFE1-4A3AD5F8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A6F1ABA-2DA1-4DF6-9693-0BECF7BC5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83AE68-EA74-4651-AB6D-D0E8D69F0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C4EEBC-53B3-4CD4-A187-D5D95F5F6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DAF219-8A4C-4D0F-BA11-73E2C5AB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A4881D-EBB3-49A2-8BE2-E53587AD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DCA2FC-BC27-451B-AE60-DE03E68F3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AE310D3-FE1C-431F-8413-A2990AB4D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7E9B9CA-C9CF-4079-9A25-F46B67020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4640805-D4B5-4761-8C90-220BE4A78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0FC098-33E6-43DE-B485-B8A45F192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9472-238A-43B0-8A12-49135FDE1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9EAB422-E7A9-447B-A846-2FA506872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CD4BB5-861F-41CB-8DAC-DCF89DD48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429C341-E977-447B-9CCE-9731309EF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0DC5DB-E300-4AFB-89EE-ECD48B43B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FEA1BA-9234-427A-A8D7-3A7F9B245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111DD2F-6828-425E-8B66-C67C9210A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992356-F09C-480C-89EA-70BE10D8E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C1B0EE-6763-425E-879A-246201804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B37E88-5225-4171-98EE-D6F59C48D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D1CC843-BAD5-433D-95C9-58F0EDDD9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3D03C9-BCF8-440A-9B55-817710491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33AD2F-7C4A-4151-89FC-4C160B1B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03078F-07BC-4611-B859-5EEA3D76C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BDC8C2-E5B4-4570-94E8-921049B22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27FAB9C-6D1A-407A-8C0F-349ACBE54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B779AA-926D-42EC-9F39-165905405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832101-FCEB-4ECD-B920-8DDEB4227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E8BBADB-D3B2-4E36-81F5-B8508EA2A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0EB809-872D-467A-BE6B-4FE78B75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9DFD35-2600-47FC-8ABE-806A0C27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E00301A-1F8E-4A9F-87E6-558FC6EBC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986C9-16C0-4046-89AC-A7428E7CC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6FBDEF5-E921-42CB-9AB8-667FA846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0D4703-E0DE-4AFF-BDAE-A19E65121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9757F6-555B-4B0E-A9D0-6D7EC8619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D3BE25-6EFE-4DF8-8F87-7AA6441FC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79DC980-48C3-436D-A19A-34D29F6CB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0C637A5-9F01-416D-B862-7D959FC27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76EB1AA-6CD6-425F-BECA-3486C5E70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E2CE1D-904B-4B6A-A3FB-6342D23A6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0C245F2-16A7-46B9-8704-20CE42F84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96DC032-0EEE-4739-AE43-ACF04994F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802D7E-F981-4700-AC6B-DB5F05890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9FBC8B-2ED6-4DB7-832E-33E1F9763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F18CAA-3096-46FA-A54A-2E01B15CA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0E6B4A8-F9AE-4F96-8C9B-D08BEDCD8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3A1A8CC-E836-4E43-AA29-301869443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638E1F-29F4-4CD0-8921-0BBEC52AE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51D001-3D0C-4671-9E6C-86AAC24D3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9FF427E-B245-4903-A7BC-87FB7E963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F47A4A-C34D-4D33-8B6E-E77E9151C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C7264F-84F7-4F0B-ACFF-8FF018896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C4B2C1-AEBA-43C5-B752-867A05F4C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E7EEE-1917-47C1-8075-B9C6402E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D5F2EA3-50E3-4BB1-9774-37FD2287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0EF8A9-78BF-42F9-859B-F5413480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A3A58F-13DA-4502-8629-B0658B316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947BEDE-EFB3-453D-B279-324B71B5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A6F987-4912-4507-9BCC-3F8FB38A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87BDE8-F576-4118-8809-995F75BAB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1E28BA-A86F-4E08-9CF1-8FA45DA49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EB5E0-A5B5-4354-861A-82B3AE348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562CC-6ECD-45A7-846E-DDBA20541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1A90-20C9-46DC-875F-DCEF63B40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C54840-5ABF-42B6-8424-92AD86749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4D8FF-267A-4DC2-AE68-40FAB6C6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D7F1B9-2D60-43A0-AFDD-1C6FDBF11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3E15F1-F9C2-4004-B0C7-65722C80C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2A1C60-3F4F-4583-BD51-494CD7A6C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6EEEE-907B-4493-95B3-6429920A3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AF33D3-FC8C-4436-8D8D-469AB885D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F73FB-3878-4C38-9D55-C73BE014E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0197F-CAB5-4DE9-B9DA-B008B2FDB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804A03-B6D9-4FA8-A691-280F8BD6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3547-D841-49E5-94FB-B199981F2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340C3-9E14-4E3A-BE27-143CBB69C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516FD-7BC2-4710-B0A5-C7F1F3106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BB160-A0A6-4C07-AF07-500676E3A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3FD4C0-0F27-4833-A65D-E83ECBFFB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D93F0-D4CC-4FCC-8812-97C2D4F09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036C9E-379B-44FA-A146-62DB637FE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F50B9-69A8-46D3-BEA4-EFBE7E0A1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D8081-F19B-49B1-95A1-E7A090B06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6AA6E-C024-4C40-B7CF-19FA901C1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638D0-6E69-481E-BB4A-026AAD5FC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DBB6-834B-4D7D-B485-8E5114A9E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D27F83-BC88-4267-A7F3-0DF8F0C7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19E7D-D2A6-4982-B1AE-032D53C42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1213B-C791-4A0E-8060-AA25CF3E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008118-442B-45F3-A899-DA0B3AFA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0AE0B8-44F5-4870-82C0-4DD2E24E5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52658B-4E41-43FA-971D-D0C9A3DE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D14552-C999-4A83-867D-827E82D13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C73377-9383-47FE-8809-2705415F8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8F35E7-C93E-4087-ABBE-66FE035BA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9B700C-5A9A-4986-93F6-1E7353490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A750C-A148-40A8-B478-0AC023BC4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928ABF-2FBA-4473-83D4-062F6AC65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C0CA3-5E2C-4F10-AC37-D121D7A6C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5CF985-0AD3-452A-AF0C-8FD208C8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4AFEE-D0FB-4351-B670-750C45737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1C8A07-7358-4359-B949-1FCD247CF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8CDA70-0855-47B8-83F0-A0B47C93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61A5B-98A0-4506-A5DE-598F2065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063690-B958-4A7E-AFA7-18D3F4DD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FCEC46-97B3-4441-AED9-FD4F43EA2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7ABF01-06E2-4B47-AC05-72A6421A1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F00B-C903-404B-881F-E2C7328A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584204-6AC5-403E-8923-0A8BF1F59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37CFF8-7958-4350-871A-2C9B10317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D495BC-2434-4322-928A-39273BB43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771C8-7F06-4706-9D37-EAACF43B6A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44EB1E-8E97-4D5A-8D2A-C59516ECD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9439D8-99E8-4BAA-8A4E-3F83B76E4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98D646-488E-403D-8555-717968118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E5CC3A-A7A7-42E8-B418-64C667564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34865-A186-491A-BF9D-4FE69582B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5EDF78-C1CD-4282-8679-3B5672A4E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D3D60-CE0E-4D9D-B2D9-602717F4B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622D68-5129-445A-9CD7-A4382440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C844A4-3A25-47BD-A013-B2AE846B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358823-184C-41DC-8861-14FC3C374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2D836-6301-440A-B413-BD68A9A855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87B06F-32EF-4B93-9927-3B5D97C3E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D3CB7A-9473-421A-B61D-E01617C9AC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828D2A-36C7-4F0D-B285-E49D9835E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FB0C7-110D-42B9-8828-D650ACACE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A7869F-CBDA-407F-AEF2-399A59E9F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374A9-7B95-4314-BEDC-AAC7B779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6D1E-7C4E-4181-8184-66B190E8C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9FD5B8-A0FF-4986-B512-3B2A71359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4D13AB-2FA5-4608-801D-75E88114A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010786-AAB4-493A-AB63-D85D9FE8C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C8905C9-EE09-4091-8639-5D234624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4365AC-1D80-4A3A-BEB5-57FE0C7C3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5E383C-2E24-49D0-A548-C9732BBA7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C2B02A-32C3-4D90-8158-03F4FC2F0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D9831-67E9-4AD6-8921-0C236C49E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824C19-3F25-404C-A89D-F4B3BFD95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401F31-3587-4018-A52D-DD748324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40A8-B090-4909-94F5-98E4DF76762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97BBF-9C57-40E4-A0FE-CB3BA6071CC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F5A97-5FD4-4BA1-9521-DAD246DCD3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2D77-2AC4-4D36-859C-9B95E432DC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BA848-6AAC-4C30-8C17-1491D9BB7C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9250E-0B2F-484F-8628-1EF5E575DC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EBC67-7EF2-473A-9478-6731F3FF3E3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44E6-CC8C-4870-9B81-E33130F309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22F60-4650-479B-A565-2C020ECC56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72E20-C8D0-43B1-AACB-EFC8E28FB8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20F26-1275-49D3-BDF6-228B5C2578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9049C-8E3D-471A-A81B-DD64B6CE04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DBCDC-BA24-4320-AADF-5C10E17005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DC6B-9299-421D-B211-F207B191FD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2A362-FC03-4AD0-8C1B-930141EF6B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42C0E-F72E-43F7-A26F-364DCAE6818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F0018-B0A7-4595-B6BB-F899AD8524B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0983-00AE-47C8-A881-4C3E015588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FA9C8-6D59-49B8-B1BE-C94E7C6189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420F9-8BF1-4AEF-8F42-4592A516AFB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9E47A-030F-4787-A664-9ADA2455F8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ED29-1D7F-4C0D-85E8-8AFE9C24973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F3BA6-6FD7-4F39-BC93-C794C5AABF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45886-1489-45C6-AD60-56B91A15A2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8BE32-D08A-4842-BEB0-7FF522EC25B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98C5F-4BD7-436F-85E7-10E0F6CEACF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644BE-4E99-4508-9447-3436D52ACA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EF4BD-0E47-4BCC-BD9A-E35293D6ED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28476-0308-4189-9103-CC24334066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8DA4-D507-481D-BC48-3AFE743C32F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EF242-0E12-4908-AC3A-CFD0A35EFA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D86AB-E621-4DEB-9DB3-AB6A2A3701B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CDF52-A082-494F-B5DA-0BB0CDA9A3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554C-3D35-41E3-968B-1987B8BFB22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A6FB4-F5B9-48E1-8A0D-268850D2C4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BB79C-27B4-4C32-9E35-86AD69C5AB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E529F-8C8B-4AD8-AC9E-C34D9DCEBFC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68A0-9E01-4C5B-92D1-6CA1C484BB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DED2-A8E5-4299-8598-99595DFEE0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1F400-4116-49FE-BD57-A4A2C25FC24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65AF3-0FE1-460E-BA12-66AC7E4C889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8B9C-8159-42CB-AD86-2ABBA775EE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235080" y="2406600"/>
            <a:ext cx="8578800" cy="20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200160" y="750960"/>
            <a:ext cx="6419880" cy="1666800"/>
          </a:xfrm>
          <a:prstGeom prst="rect">
            <a:avLst/>
          </a:prstGeom>
          <a:ln w="0">
            <a:noFill/>
          </a:ln>
        </p:spPr>
      </p:pic>
      <p:pic>
        <p:nvPicPr>
          <p:cNvPr id="1108" name="图片 2" descr=""/>
          <p:cNvPicPr/>
          <p:nvPr/>
        </p:nvPicPr>
        <p:blipFill>
          <a:blip r:embed="rId2"/>
          <a:stretch/>
        </p:blipFill>
        <p:spPr>
          <a:xfrm>
            <a:off x="7254720" y="1979640"/>
            <a:ext cx="1571760" cy="371520"/>
          </a:xfrm>
          <a:prstGeom prst="rect">
            <a:avLst/>
          </a:prstGeom>
          <a:ln w="0">
            <a:noFill/>
          </a:ln>
        </p:spPr>
      </p:pic>
      <p:pic>
        <p:nvPicPr>
          <p:cNvPr id="1109" name="图片 3" descr=""/>
          <p:cNvPicPr/>
          <p:nvPr/>
        </p:nvPicPr>
        <p:blipFill>
          <a:blip r:embed="rId3"/>
          <a:stretch/>
        </p:blipFill>
        <p:spPr>
          <a:xfrm>
            <a:off x="200160" y="2523960"/>
            <a:ext cx="8724600" cy="381960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4"/>
          <a:stretch/>
        </p:blipFill>
        <p:spPr>
          <a:xfrm>
            <a:off x="468360" y="1197000"/>
            <a:ext cx="358560" cy="28908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5"/>
          <a:stretch/>
        </p:blipFill>
        <p:spPr>
          <a:xfrm>
            <a:off x="468360" y="2492280"/>
            <a:ext cx="358560" cy="28908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6"/>
          <a:stretch/>
        </p:blipFill>
        <p:spPr>
          <a:xfrm>
            <a:off x="395280" y="3429000"/>
            <a:ext cx="358920" cy="28908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7"/>
          <a:stretch/>
        </p:blipFill>
        <p:spPr>
          <a:xfrm>
            <a:off x="468360" y="4724280"/>
            <a:ext cx="358560" cy="28908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8"/>
          <a:stretch/>
        </p:blipFill>
        <p:spPr>
          <a:xfrm>
            <a:off x="468360" y="5589720"/>
            <a:ext cx="35856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5" name="图片 1" descr=""/>
          <p:cNvPicPr/>
          <p:nvPr/>
        </p:nvPicPr>
        <p:blipFill>
          <a:blip r:embed="rId1"/>
          <a:stretch/>
        </p:blipFill>
        <p:spPr>
          <a:xfrm>
            <a:off x="1347840" y="2133720"/>
            <a:ext cx="6448320" cy="259056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2"/>
          <a:stretch/>
        </p:blipFill>
        <p:spPr>
          <a:xfrm>
            <a:off x="3851280" y="2627280"/>
            <a:ext cx="1152360" cy="28908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3"/>
          <a:stretch/>
        </p:blipFill>
        <p:spPr>
          <a:xfrm>
            <a:off x="5580000" y="3059280"/>
            <a:ext cx="1152720" cy="2887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4"/>
          <a:stretch/>
        </p:blipFill>
        <p:spPr>
          <a:xfrm>
            <a:off x="3492360" y="3500280"/>
            <a:ext cx="1152720" cy="28908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5"/>
          <a:stretch/>
        </p:blipFill>
        <p:spPr>
          <a:xfrm>
            <a:off x="4643280" y="3943440"/>
            <a:ext cx="1152720" cy="28872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6"/>
          <a:stretch/>
        </p:blipFill>
        <p:spPr>
          <a:xfrm>
            <a:off x="4284720" y="4384800"/>
            <a:ext cx="115236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1" descr=""/>
          <p:cNvPicPr/>
          <p:nvPr/>
        </p:nvPicPr>
        <p:blipFill>
          <a:blip r:embed="rId1"/>
          <a:stretch/>
        </p:blipFill>
        <p:spPr>
          <a:xfrm>
            <a:off x="76320" y="1004760"/>
            <a:ext cx="8991360" cy="484848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2"/>
          <a:stretch/>
        </p:blipFill>
        <p:spPr>
          <a:xfrm>
            <a:off x="539640" y="1906560"/>
            <a:ext cx="2087640" cy="28908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3"/>
          <a:stretch/>
        </p:blipFill>
        <p:spPr>
          <a:xfrm>
            <a:off x="4284720" y="1906560"/>
            <a:ext cx="1727280" cy="28908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4"/>
          <a:stretch/>
        </p:blipFill>
        <p:spPr>
          <a:xfrm>
            <a:off x="900000" y="2781360"/>
            <a:ext cx="3384720" cy="28872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5"/>
          <a:stretch/>
        </p:blipFill>
        <p:spPr>
          <a:xfrm>
            <a:off x="5076720" y="2781360"/>
            <a:ext cx="1366920" cy="28872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6"/>
          <a:stretch/>
        </p:blipFill>
        <p:spPr>
          <a:xfrm>
            <a:off x="611280" y="3668760"/>
            <a:ext cx="865080" cy="2887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7"/>
          <a:stretch/>
        </p:blipFill>
        <p:spPr>
          <a:xfrm>
            <a:off x="2340000" y="3654360"/>
            <a:ext cx="503280" cy="28908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8"/>
          <a:stretch/>
        </p:blipFill>
        <p:spPr>
          <a:xfrm>
            <a:off x="2627280" y="4540320"/>
            <a:ext cx="2232000" cy="28872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9"/>
          <a:stretch/>
        </p:blipFill>
        <p:spPr>
          <a:xfrm>
            <a:off x="611280" y="5425920"/>
            <a:ext cx="865080" cy="28908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10"/>
          <a:stretch/>
        </p:blipFill>
        <p:spPr>
          <a:xfrm>
            <a:off x="2843280" y="5402160"/>
            <a:ext cx="865080" cy="2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0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0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1" name="图片 1" descr=""/>
          <p:cNvPicPr/>
          <p:nvPr/>
        </p:nvPicPr>
        <p:blipFill>
          <a:blip r:embed="rId1"/>
          <a:stretch/>
        </p:blipFill>
        <p:spPr>
          <a:xfrm>
            <a:off x="1386000" y="2109960"/>
            <a:ext cx="6372000" cy="263808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2"/>
          <a:stretch/>
        </p:blipFill>
        <p:spPr>
          <a:xfrm>
            <a:off x="2484360" y="2556000"/>
            <a:ext cx="574920" cy="28872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3"/>
          <a:stretch/>
        </p:blipFill>
        <p:spPr>
          <a:xfrm>
            <a:off x="3059280" y="2987640"/>
            <a:ext cx="574560" cy="2890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4"/>
          <a:stretch/>
        </p:blipFill>
        <p:spPr>
          <a:xfrm>
            <a:off x="3780000" y="3429000"/>
            <a:ext cx="574560" cy="28908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5"/>
          <a:stretch/>
        </p:blipFill>
        <p:spPr>
          <a:xfrm>
            <a:off x="3276720" y="3860640"/>
            <a:ext cx="574560" cy="2890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6"/>
          <a:stretch/>
        </p:blipFill>
        <p:spPr>
          <a:xfrm>
            <a:off x="3851280" y="4311720"/>
            <a:ext cx="792000" cy="28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7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30:49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